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844-C84C-4EFD-8E6B-127B7E2B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820-48B0-42B1-B178-7DDAC4FF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001-AFA2-4B6C-9999-C28C9CAA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19A-0904-4DDC-8FFA-7694A8B1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3A88-EBD6-47BD-9BC7-90995BF2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83E6-A7A1-4482-8A8D-8A028599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3584-9AD5-45A9-A2CB-97EB32B1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3EC4-05C5-48EA-AE8B-E31DA672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FA1B-72AD-476F-AA17-D5096A59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239A-D8BE-4551-A949-418978EF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7E63-0D4F-45F2-9BAE-2A700F4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8AE0-CB85-4F76-9717-5C94C8BB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40BE-F2BC-427A-8B87-10123C30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15F-CB62-40CB-866C-30AFCF57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15E6-B440-4959-9E88-F8E92281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E1A6-A398-45A9-B45A-8E3CE149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5F9D-B65B-4CED-A798-103240C6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086-B09E-403F-9D10-B148C778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95B-4D22-4605-A152-912341EF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5BF-0CBB-410A-B00D-F30B4DAB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A5D-6B09-4E4F-8E2E-DC65B1D7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374-E9B9-4426-A854-23A0A584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CA1-F73D-43B2-A280-047F6D8D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A38-27B3-4441-ABD6-BDB610B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5583-2737-4965-BA17-70E9F13A9D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2D89-4A04-4DFE-921C-EDB599B923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ttle-miss-pink.deviantart.com/art/Hate-38191635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Expressions Of M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Monika Balfan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ango Danc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1905120"/>
            <a:ext cx="5943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irling and swirling to a Latin be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ving in ways that no one d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 skirt of burgundy flowers flies up hig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25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1066680"/>
            <a:ext cx="5562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only laughs, silly men stop and st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will never work up the nerv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ai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by two, they separate by pair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one she dances, not needing a m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1828800"/>
            <a:ext cx="2583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38280" y="1371600"/>
            <a:ext cx="6248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r eyes are of a kind most r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ep black onyx that stare through your so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a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e wishes this night to never 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ats that last eternally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tango dancer is without a c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usic electrifies the sweet ai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33717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  <a:lum bright="34000"/>
          </a:blip>
          <a:stretch/>
        </p:blipFill>
        <p:spPr>
          <a:xfrm>
            <a:off x="3276720" y="1371600"/>
            <a:ext cx="5638680" cy="4622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sonnet of 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2057400"/>
            <a:ext cx="6248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imson hate courses through me like a fi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it up in the starry rage of the 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r smile can only make the flames high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 laugh even though you know I’m r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 scream and yell, trying to make you see the l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thing but violence results in the 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y to change your will with all my migh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ed to make sense of the rules you b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00200" y="762120"/>
            <a:ext cx="5867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idges that we have yet to m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ate is my poison, stealing my breat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tience is the gift that no one can len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imson hate, blood red de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ack chaos morphing into burgun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’t you see the hate that you pull out of m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001000" cy="5695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by Jagu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81536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Little baby jaguar, stalking in the mid-n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Camouflages in darkness, hidden from their si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Angel roar resounds throughout the darkened playgr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A little child comes out to play with curiosity un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asting scarlet blood running through the ea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earching old places of his mother’s birt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plashing in the water, deep with his bug best friends.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Muddy paw prints trek through the dirty be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76520" y="685800"/>
            <a:ext cx="59436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pping at the kisses of sweet dew laid for h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lay time that lasts forever, hoping it will never ce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ncing into the Moon Mother’s embr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le keeping with the ancient predator’s 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 of me is a little jaguar ch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e brings me to this deep dark, wi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81080" y="3352680"/>
            <a:ext cx="5257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ictures us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little-miss-pink.deviantart.com/art/Hate-3819163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poisonedpure.deviantart.com/art/Hate-Love-2066075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rayned-voodoo.deviantart.com/art/love-and-hate-3653307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manx-works.deviantart.com/art/Black-Jaguar-4146113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robbobert.deviantart.com/art/The-Jaguar-s-Gaze-1207259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miezbiez.deviantart.com/art/Jaguar-portrait-3527945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callalilynini.deviantart.com/art/Salsa-Dancer-5329938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doubtful-della.deviantart.com/art/Flamenco-2087787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tp://www.salsagrooves.ie/images/contact.gi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21:30:21Z</dcterms:created>
  <dc:creator>Roni</dc:creator>
  <dc:description/>
  <dc:language>en-US</dc:language>
  <cp:lastModifiedBy>Roni</cp:lastModifiedBy>
  <dcterms:modified xsi:type="dcterms:W3CDTF">2008-05-16T21:58:42Z</dcterms:modified>
  <cp:revision>2</cp:revision>
  <dc:subject/>
  <dc:title>Expressions Of Me</dc:title>
</cp:coreProperties>
</file>